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C98-DC96-4C05-82E0-F9338C21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300-05D9-4F71-86DE-CA2DDAA6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32F-374A-4F5F-88CE-950A26F6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3F4-4FD4-4AA7-ABAF-8F83E6EF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902-A894-4FF6-8C3F-C2E163F9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E98-0B37-4FB2-BD5F-F8BC3E76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7C9-4866-464B-BDCC-93C14FD7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077-D7FC-416C-AEF2-9CB7CEE8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D07-9EBA-457B-ACA0-14A83C72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84A-B44B-445F-80AE-F37B390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E6B-3CCE-4983-B8C2-18762DB3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D58-CE76-4A35-BF86-93B513F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24A-4C5B-4BF0-AFDC-F06735D97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4.bp.blogspot.com/_b4aKEuxtAzY/THUKCR6X9CI/AAAAAAAAACY/ARUZZdsT8SU/s320/3215051141_72b4bc453a_o.gif"/>
          <p:cNvPicPr/>
          <p:nvPr/>
        </p:nvPicPr>
        <p:blipFill>
          <a:blip r:embed="rId1"/>
          <a:stretch/>
        </p:blipFill>
        <p:spPr>
          <a:xfrm>
            <a:off x="76320" y="838080"/>
            <a:ext cx="6781680" cy="632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ame: ____________________________________________Dat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kip count by 2’s, starting with 2.  Color all of the boxes you say </a:t>
            </a: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green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5880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o you notice a pattern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797256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8229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8839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http://4.bp.blogspot.com/_b4aKEuxtAzY/THUKCR6X9CI/AAAAAAAAACY/ARUZZdsT8SU/s320/3215051141_72b4bc453a_o.gif"/>
          <p:cNvPicPr/>
          <p:nvPr/>
        </p:nvPicPr>
        <p:blipFill>
          <a:blip r:embed="rId1"/>
          <a:stretch/>
        </p:blipFill>
        <p:spPr>
          <a:xfrm>
            <a:off x="76320" y="838080"/>
            <a:ext cx="6781680" cy="6324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ame: ____________________________________________Dat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kip count by 2’s, starting with 1.  Color all of the boxes you say </a:t>
            </a: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green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880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o you notice a pattern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797256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8229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8839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4.bp.blogspot.com/_b4aKEuxtAzY/THUKCR6X9CI/AAAAAAAAACY/ARUZZdsT8SU/s320/3215051141_72b4bc453a_o.gif"/>
          <p:cNvPicPr/>
          <p:nvPr/>
        </p:nvPicPr>
        <p:blipFill>
          <a:blip r:embed="rId1"/>
          <a:stretch/>
        </p:blipFill>
        <p:spPr>
          <a:xfrm>
            <a:off x="76320" y="685800"/>
            <a:ext cx="678168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76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ame: ____________________________________________Dat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kip count by 5’s, starting with 5.  Color all of the boxes you say </a:t>
            </a: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blue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9343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o you notice any pattern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7238880"/>
            <a:ext cx="66294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7543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7924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8231040"/>
            <a:ext cx="66294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610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8991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8915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http://4.bp.blogspot.com/_b4aKEuxtAzY/THUKCR6X9CI/AAAAAAAAACY/ARUZZdsT8SU/s320/3215051141_72b4bc453a_o.gif"/>
          <p:cNvPicPr/>
          <p:nvPr/>
        </p:nvPicPr>
        <p:blipFill>
          <a:blip r:embed="rId1"/>
          <a:stretch/>
        </p:blipFill>
        <p:spPr>
          <a:xfrm>
            <a:off x="76320" y="685800"/>
            <a:ext cx="678168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76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ame: ____________________________________________Dat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kip count by 5’s, starting with 2.  Color all of the boxes you say </a:t>
            </a: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yellow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010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o you notice any pattern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7315200"/>
            <a:ext cx="66294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7620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80010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8307360"/>
            <a:ext cx="66294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8686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9067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8991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1:55:55Z</dcterms:created>
  <dc:creator>aanderson</dc:creator>
  <dc:description/>
  <dc:language>en-US</dc:language>
  <cp:lastModifiedBy>aanderson</cp:lastModifiedBy>
  <dcterms:modified xsi:type="dcterms:W3CDTF">2012-09-27T12:15:10Z</dcterms:modified>
  <cp:revision>2</cp:revision>
  <dc:subject/>
  <dc:title>Slide 1</dc:title>
</cp:coreProperties>
</file>